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C49-BC00-427E-9DC6-087124BC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8CB-EEE0-42BD-85B8-2043D56D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921-2E03-41A7-8C3A-2F45E6C4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607D-B1AD-4552-809F-36899EF7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550-C453-4F49-8F80-1D526E1B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96C-DFBA-4131-8C74-8C0AAB7B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1BC-F0C4-444D-A344-CF89F449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550-161C-42D1-A52C-C957B8FD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1C4-46C8-480F-9BC1-F218CECA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E0C-A7A4-4343-8D0C-A01F70C1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704-462B-4F6F-95BF-90C7B1EF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E6F-3F69-43E3-BD32-23127D15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5891-AC8F-40FB-B272-70BF3D40B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9280" y="414360"/>
            <a:ext cx="43426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Bookman Old Style"/>
              </a:rPr>
              <a:t>Titles of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Bookman Old Style"/>
              </a:rPr>
              <a:t>The Queen of Heaven and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38520" y="7364520"/>
            <a:ext cx="4984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Bookman Old Style"/>
              </a:rPr>
              <a:t>Please see other side for: 100 titles of Our Lad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Bookman Old Style"/>
              </a:rPr>
              <a:t>~ ~ ~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man Old Style"/>
              </a:rPr>
              <a:t>Sea of Sorr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man Old Style"/>
              </a:rPr>
              <a:t>Virgin most Sorrow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man Old Style"/>
              </a:rPr>
              <a:t>Mother of Sorr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man Old Style"/>
              </a:rPr>
              <a:t>Sorrowful and Immaculate Heart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341360" y="1332000"/>
            <a:ext cx="417852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00:56:59Z</dcterms:created>
  <dc:creator> Mike Bizzaro</dc:creator>
  <dc:description/>
  <dc:language>en-US</dc:language>
  <cp:lastModifiedBy>Mike Bizzaro</cp:lastModifiedBy>
  <dcterms:modified xsi:type="dcterms:W3CDTF">2006-06-09T14:04:43Z</dcterms:modified>
  <cp:revision>6</cp:revision>
  <dc:subject/>
  <dc:title>Slide 1</dc:title>
</cp:coreProperties>
</file>